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040" y="3694320"/>
            <a:ext cx="7194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080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0080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6560" y="129528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9080" y="129528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040" y="369432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6560" y="369432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9080" y="369432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0080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080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04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080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0080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080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694320"/>
            <a:ext cx="7194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def9fa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9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网上联络与网络游戏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d61ee"/>
                </a:solidFill>
                <a:uFillTx/>
                <a:latin typeface="Times New Roman"/>
                <a:ea typeface="宋体"/>
                <a:hlinkClick r:id="rId1" action="ppaction://hlinksldjump"/>
              </a:rPr>
              <a:t>7.1  </a:t>
            </a:r>
            <a:r>
              <a:rPr b="1" lang="zh-CN" sz="3200" spc="-1" strike="noStrike" u="sng">
                <a:solidFill>
                  <a:srgbClr val="fd61ee"/>
                </a:solidFill>
                <a:uFillTx/>
                <a:latin typeface="Times New Roman"/>
                <a:ea typeface="宋体"/>
                <a:hlinkClick r:id="rId2" action="ppaction://hlinksldjump"/>
              </a:rPr>
              <a:t>腾讯</a:t>
            </a:r>
            <a:r>
              <a:rPr b="1" lang="en-US" sz="3200" spc="-1" strike="noStrike" u="sng">
                <a:solidFill>
                  <a:srgbClr val="fd61ee"/>
                </a:solidFill>
                <a:uFillTx/>
                <a:latin typeface="Times New Roman"/>
                <a:ea typeface="宋体"/>
                <a:hlinkClick r:id="rId3" action="ppaction://hlinksldjump"/>
              </a:rPr>
              <a:t>QQ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d61ee"/>
                </a:solidFill>
                <a:uFillTx/>
                <a:latin typeface="Times New Roman"/>
                <a:ea typeface="宋体"/>
                <a:hlinkClick r:id="rId4" action="ppaction://hlinksldjump"/>
              </a:rPr>
              <a:t>7.2  联众网络游戏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6040" y="13712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网友分组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够对用户的网友进行分组。默认情况下，分为三组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我的好友：在添加好友的时候，首先都会进入到这个组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陌生人：当用户不认识的人给您发送消息时，他的图标就会出现在这个组。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黑名单：在用户不想让某个人打扰的时候，用户可以点击该网友图标，把他直接拖到黑名单组，这样他的消息就再也看不到了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28960" y="2181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engxun2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2211480" cy="3714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00200" y="487692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表设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0" y="2195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engxun6" descr=""/>
          <p:cNvPicPr/>
          <p:nvPr/>
        </p:nvPicPr>
        <p:blipFill>
          <a:blip r:embed="rId2"/>
          <a:stretch/>
        </p:blipFill>
        <p:spPr>
          <a:xfrm>
            <a:off x="5562720" y="609480"/>
            <a:ext cx="2041560" cy="4067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038480" y="502920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修改界面风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6400800"/>
            <a:ext cx="1295280" cy="368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.1.3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QQ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收发消息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查找和添加好友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看谁在线上 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自定义查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发送消息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接受和回复消息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传输文件和发送语音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传输文件 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发送语音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7-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319560" y="2543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tengxun8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410440" cy="3825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828800" y="5334120"/>
            <a:ext cx="5334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9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查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用户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95800" y="2529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tengxun7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5010120" cy="3533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0" y="5257800"/>
            <a:ext cx="464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1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查询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10080" y="2771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tengxun9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51055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71800" y="5105520"/>
            <a:ext cx="3429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1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送消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29160" y="2405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tengxun10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3681360" cy="399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33720" y="525780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1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对话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33680" y="2281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tengxun12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556080" cy="3585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09680" y="5029200"/>
            <a:ext cx="434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1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回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438360" y="2895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engxun1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714920" cy="2219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28800" y="4876920"/>
            <a:ext cx="4724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1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送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6400800"/>
            <a:ext cx="1295280" cy="368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7.1.4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QQ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安全设置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788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可以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行保护，设置本地密码；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参数设置对话框的“安全设置”选项卡中选中“启用本地消息加密”，输入本地口令，参见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3691080" y="2548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tengxun14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3133800" cy="313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961960" y="2743200"/>
            <a:ext cx="9118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1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设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6400800"/>
            <a:ext cx="1295280" cy="368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腾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QQ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d61ee"/>
                </a:solidFill>
                <a:uFillTx/>
                <a:latin typeface="Arial"/>
                <a:ea typeface="宋体"/>
                <a:hlinkClick r:id="rId1" action="ppaction://hlinksldjump"/>
              </a:rPr>
              <a:t>7.1.1  </a:t>
            </a:r>
            <a:r>
              <a:rPr b="1" lang="zh-CN" sz="2800" spc="-1" strike="noStrike" u="sng">
                <a:solidFill>
                  <a:srgbClr val="fd61ee"/>
                </a:solidFill>
                <a:uFillTx/>
                <a:latin typeface="Arial"/>
                <a:ea typeface="宋体"/>
                <a:hlinkClick r:id="rId2" action="ppaction://hlinksldjump"/>
              </a:rPr>
              <a:t>用户注册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d61ee"/>
                </a:solidFill>
                <a:uFillTx/>
                <a:latin typeface="Arial"/>
                <a:ea typeface="Arial"/>
                <a:hlinkClick r:id="rId3" action="ppaction://hlinksldjump"/>
              </a:rPr>
              <a:t>7.1.2  </a:t>
            </a:r>
            <a:r>
              <a:rPr b="1" lang="zh-CN" sz="2800" spc="-1" strike="noStrike" u="sng">
                <a:solidFill>
                  <a:srgbClr val="fd61ee"/>
                </a:solidFill>
                <a:uFillTx/>
                <a:latin typeface="Arial"/>
                <a:ea typeface="宋体"/>
                <a:hlinkClick r:id="rId4" action="ppaction://hlinksldjump"/>
              </a:rPr>
              <a:t>主界面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d61ee"/>
                </a:solidFill>
                <a:uFillTx/>
                <a:latin typeface="Arial"/>
                <a:ea typeface="宋体"/>
                <a:hlinkClick r:id="rId5" action="ppaction://hlinksldjump"/>
              </a:rPr>
              <a:t>7.1.3</a:t>
            </a:r>
            <a:r>
              <a:rPr b="1" lang="zh-CN" sz="2800" spc="-1" strike="noStrike" u="sng">
                <a:solidFill>
                  <a:srgbClr val="fd61ee"/>
                </a:solidFill>
                <a:uFillTx/>
                <a:latin typeface="Times New Roman"/>
                <a:ea typeface="宋体"/>
                <a:hlinkClick r:id="rId6" action="ppaction://hlinksldjump"/>
              </a:rPr>
              <a:t>  </a:t>
            </a:r>
            <a:r>
              <a:rPr b="1" lang="en-US" sz="2800" spc="-1" strike="noStrike" u="sng">
                <a:solidFill>
                  <a:srgbClr val="fd61ee"/>
                </a:solidFill>
                <a:uFillTx/>
                <a:latin typeface="Times New Roman"/>
                <a:ea typeface="宋体"/>
                <a:hlinkClick r:id="rId7" action="ppaction://hlinksldjump"/>
              </a:rPr>
              <a:t>QQ</a:t>
            </a:r>
            <a:r>
              <a:rPr b="1" lang="zh-CN" sz="2800" spc="-1" strike="noStrike" u="sng">
                <a:solidFill>
                  <a:srgbClr val="fd61ee"/>
                </a:solidFill>
                <a:uFillTx/>
                <a:latin typeface="Times New Roman"/>
                <a:ea typeface="宋体"/>
                <a:hlinkClick r:id="rId8" action="ppaction://hlinksldjump"/>
              </a:rPr>
              <a:t>收发消息</a:t>
            </a:r>
            <a:r>
              <a:rPr b="1" lang="zh-CN" sz="2800" spc="-1" strike="noStrike" u="sng">
                <a:solidFill>
                  <a:srgbClr val="fd61ee"/>
                </a:solidFill>
                <a:uFillTx/>
                <a:latin typeface="Times New Roman"/>
                <a:ea typeface="宋体"/>
                <a:hlinkClick r:id="rId9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d61ee"/>
                </a:solidFill>
                <a:uFillTx/>
                <a:latin typeface="Arial"/>
                <a:ea typeface="宋体"/>
                <a:hlinkClick r:id="rId10" action="ppaction://hlinksldjump"/>
              </a:rPr>
              <a:t>7.1.4  </a:t>
            </a:r>
            <a:r>
              <a:rPr b="1" lang="en-US" sz="2800" spc="-1" strike="noStrike" u="sng">
                <a:solidFill>
                  <a:srgbClr val="fd61ee"/>
                </a:solidFill>
                <a:uFillTx/>
                <a:latin typeface="Arial"/>
                <a:ea typeface="宋体"/>
                <a:hlinkClick r:id="rId11" action="ppaction://hlinksldjump"/>
              </a:rPr>
              <a:t>QQ</a:t>
            </a:r>
            <a:r>
              <a:rPr b="1" lang="zh-CN" sz="2800" spc="-1" strike="noStrike" u="sng">
                <a:solidFill>
                  <a:srgbClr val="fd61ee"/>
                </a:solidFill>
                <a:uFillTx/>
                <a:latin typeface="Arial"/>
                <a:ea typeface="宋体"/>
                <a:hlinkClick r:id="rId12" action="ppaction://hlinksldjump"/>
              </a:rPr>
              <a:t>的安全设置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7086600" y="6400800"/>
            <a:ext cx="1295280" cy="368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.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联众网络游戏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7.2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下载安装联众世界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7.2.2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入联众世界游戏大厅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7.2.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入联众游戏室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7.2.4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游戏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6400800"/>
            <a:ext cx="1295280" cy="368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7.2.1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下载安装联众世界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载安装联众世界的步骤如下：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搜索联众世界的网站</a:t>
            </a:r>
            <a:r>
              <a:rPr b="1" lang="en-US" sz="2800" spc="-1" strike="noStrike" u="sng">
                <a:solidFill>
                  <a:srgbClr val="fd61ee"/>
                </a:solidFill>
                <a:uFillTx/>
                <a:latin typeface="Times New Roman"/>
                <a:ea typeface="宋体"/>
              </a:rPr>
              <a:t>http://www.</a:t>
            </a:r>
            <a:r>
              <a:rPr b="1" lang="en-US" sz="2800" spc="-1" strike="noStrike" u="sng">
                <a:solidFill>
                  <a:srgbClr val="fd61ee"/>
                </a:solidFill>
                <a:uFillTx/>
                <a:latin typeface="Times New Roman"/>
                <a:ea typeface="宋体"/>
              </a:rPr>
              <a:t>ourgame</a:t>
            </a:r>
            <a:r>
              <a:rPr b="1" lang="en-US" sz="2800" spc="-1" strike="noStrike" u="sng">
                <a:solidFill>
                  <a:srgbClr val="fd61ee"/>
                </a:solidFill>
                <a:uFillTx/>
                <a:latin typeface="Times New Roman"/>
                <a:ea typeface="宋体"/>
              </a:rPr>
              <a:t>.com。</a:t>
            </a:r>
            <a:r>
              <a:rPr b="1" lang="zh-CN" sz="2800" spc="-1" strike="noStrike" u="sng">
                <a:solidFill>
                  <a:srgbClr val="fd61ee"/>
                </a:solidFill>
                <a:uFillTx/>
                <a:latin typeface="Times New Roman"/>
                <a:ea typeface="宋体"/>
              </a:rPr>
              <a:t>参见图7-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进行免费注册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安装游戏大厅管理模块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安装完毕后，将自动弹出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“登录信息”对话框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357720" y="2538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联众世界1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4186080" cy="3070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266880" y="457200"/>
            <a:ext cx="91188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1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联众世界主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76520" y="2995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联众世界2" descr=""/>
          <p:cNvPicPr/>
          <p:nvPr/>
        </p:nvPicPr>
        <p:blipFill>
          <a:blip r:embed="rId2"/>
          <a:stretch/>
        </p:blipFill>
        <p:spPr>
          <a:xfrm>
            <a:off x="1523880" y="4191120"/>
            <a:ext cx="4800600" cy="1900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418440" y="3733920"/>
            <a:ext cx="127764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1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联众世界登录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6400800"/>
            <a:ext cx="1295280" cy="368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7.2.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入联众世界游戏大厅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290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联众世界3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4800600" cy="3414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14600" y="5105520"/>
            <a:ext cx="403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1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联众世界游戏大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476520" y="3105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联众世界4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667480" cy="167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20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LWorl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52480" y="1600200"/>
            <a:ext cx="563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7-2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游戏大厅的功能按钮的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95280" y="2971800"/>
          <a:ext cx="670572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670572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7086600" y="6400800"/>
            <a:ext cx="1295280" cy="368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7.2.3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入联众游戏室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“进入”按钮，将出现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的“选择服务器”对话框。单击“确定”按钮如图 。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3529080" y="2471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联众世界6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3686400" cy="3382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961960" y="2133720"/>
            <a:ext cx="91188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21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服务器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795760" y="2243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联众世界7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205240" cy="3475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8800" y="5105520"/>
            <a:ext cx="5410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22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服务器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990720" y="2438280"/>
          <a:ext cx="7124760" cy="28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712476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438280" y="1447920"/>
            <a:ext cx="434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7-3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信息窗口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6400800"/>
            <a:ext cx="1295280" cy="368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7.2.4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开始游戏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房间单击一个空位坐下。然后单击“开始”按钮，便开始游戏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右键单击桌子上的用户名，可以查看该用户的有关信息，与之对话，将其设置为朋友或不受欢迎的人以及对其作动作等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每当一局结束后，单击“开始”按钮，否则，单击关闭窗口离开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6400800"/>
            <a:ext cx="1295280" cy="368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7.1.1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户注册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72812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第一次运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时候软件会提示进行注册，进入注册界面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按向导提示一步一步地输入用户的有关资料（参见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1~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"/>
          <p:cNvSpPr/>
          <p:nvPr/>
        </p:nvSpPr>
        <p:spPr>
          <a:xfrm>
            <a:off x="3295800" y="2428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网上寻呼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4076640" cy="3193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4240" y="2895480"/>
            <a:ext cx="911880" cy="312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注册向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50"/>
                </a:solidFill>
                <a:latin typeface="Arial"/>
                <a:ea typeface="宋体"/>
              </a:rPr>
              <a:t>Thank you very much!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2743920" y="2590920"/>
            <a:ext cx="338112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本章到此结束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谢谢您的光临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endshow"/>
          </p:cNvPr>
          <p:cNvSpPr/>
          <p:nvPr/>
        </p:nvSpPr>
        <p:spPr>
          <a:xfrm>
            <a:off x="7086600" y="6400800"/>
            <a:ext cx="1295280" cy="368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结束放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86080" y="2424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网上寻呼2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4647960" cy="3632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66880" y="5029200"/>
            <a:ext cx="358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填写基本资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62400" y="24811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网上寻呼4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562640" cy="357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38280" y="5181480"/>
            <a:ext cx="381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网络选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6400800"/>
            <a:ext cx="1295280" cy="36828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7.1.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主界面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标的作用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显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前的状态（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四种状态）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前状态的切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（ 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）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启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菜单命令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）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03680" y="1336680"/>
            <a:ext cx="42829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1600200"/>
            <a:ext cx="403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7-1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Q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图标的四种状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2895480"/>
          <a:ext cx="6615000" cy="17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661500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48240" y="2809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tengxun5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505320" cy="234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4800600"/>
            <a:ext cx="304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切换菜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95720" y="25239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tengxun4" descr=""/>
          <p:cNvPicPr/>
          <p:nvPr/>
        </p:nvPicPr>
        <p:blipFill>
          <a:blip r:embed="rId2"/>
          <a:stretch/>
        </p:blipFill>
        <p:spPr>
          <a:xfrm>
            <a:off x="5638680" y="838080"/>
            <a:ext cx="1835280" cy="3486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48320" y="4800600"/>
            <a:ext cx="3200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5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系统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2286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主界面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1962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47584" t="13732" r="32159" b="11918"/>
          <a:stretch/>
        </p:blipFill>
        <p:spPr>
          <a:xfrm>
            <a:off x="3505320" y="380880"/>
            <a:ext cx="2187360" cy="6019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61240" y="1371600"/>
            <a:ext cx="5461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-6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6T00:46:52Z</dcterms:created>
  <dc:creator>Andy Sweet</dc:creator>
  <dc:description/>
  <dc:language>en-US</dc:language>
  <cp:lastModifiedBy>ya6</cp:lastModifiedBy>
  <dcterms:modified xsi:type="dcterms:W3CDTF">2003-02-27T03:39:52Z</dcterms:modified>
  <cp:revision>90</cp:revision>
  <dc:subject/>
  <dc:title>Module 7: Designing a Multiple Domain Structure</dc:title>
</cp:coreProperties>
</file>